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3.gif" ContentType="image/gif"/>
  <Override PartName="/ppt/media/image4.gif" ContentType="image/gif"/>
  <Override PartName="/ppt/media/image5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FD072-5FD1-4E7D-8C85-74FB26D90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E428E-FD11-4FF0-8FC1-B2D29BD7B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50F98-9DE2-4EDE-BCC2-608E73866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522CA-E0B2-45C2-9B31-A1D9EA3A2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69477-BBF7-4104-B33A-69D53ADD9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EB120-5AFD-4EF2-B6E3-93E166778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20498-13B5-4197-93C5-0213BD02E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18C58-DCC3-4C42-AA25-E95514EE3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442B7-9D30-45B6-9B85-E120990B9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EE55D-825C-4910-B202-4B8C9B4B0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BB35C-625E-4DD3-A4D8-D4E67BDEF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882B9-D2B7-4764-9BC1-53668A870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D5A66-6AE1-4D24-825B-6B31C0B5B8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metacrawler.com/" TargetMode="External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our guide to the Intern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clov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352680" y="457200"/>
            <a:ext cx="2286000" cy="19670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irst thing you want to do is to limit your search results. Putting quotation marks and + in between words is a good way to get specific resul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143000" y="4191120"/>
            <a:ext cx="1752480" cy="16747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ta-search eng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meta-search engines, you type what you want into a search box and it will give you several individual search engines and their webpag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lib.berkeley.edu/TeachingLib/Guides/Internet/MetaSearch.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s of meta-search engi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metacrawler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ww.mamma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ww.dogpile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5257800" y="3124080"/>
            <a:ext cx="2317680" cy="31006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’t make your searches too vague. So if you are looking for an automobile, don’t just type Toyota. Instead, type 2005 Toyota Tundra if you are looking for that specific vehic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895480" y="3276720"/>
            <a:ext cx="4114800" cy="41148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dividual search eng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ww.google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ww.altavisa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ww.yahoo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ww.msn.search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eware of searching on three-letter top-level domains to narrow your search. Do NOT try to search for the URL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edu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m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ere are too many pages in these domains for the search engine to handle. On the other hand, searching for the URL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gov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ay be more successful because there are far fewer of these pages. Still, all searches on top-level domains should be used with caut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www.internettutorials.net/strategies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ember to not search for vague things, and that “” and + help searches to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438280" y="3886200"/>
            <a:ext cx="2346480" cy="25812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mour User</cp:lastModifiedBy>
  <dcterms:modified xsi:type="dcterms:W3CDTF">2007-10-10T16:45:53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